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D70-281D-4A14-A091-99331D1D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588-8CBC-4BE1-AB1B-E9A3CB43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A98-96E8-4135-A645-09C4AF14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968D-34FD-4B60-94A3-32BEC1EE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53B-FF88-47DC-BFE2-17B30BB9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86F-8F74-4E0B-A9F9-65999270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22E-C7F3-4E9A-8F15-5F4EC9F4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947-ABC7-4771-B432-86738857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D12-466C-4903-B80F-A21B8D77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1A2-D8FC-4F02-9259-93AD1069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25F-D2AD-4C08-887E-A9212E95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E07-0284-4ADA-8286-0C993E91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CEBA-4D1B-496A-B228-FCBDD0F17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ostcards From Camp"/>
          <p:cNvPicPr/>
          <p:nvPr/>
        </p:nvPicPr>
        <p:blipFill>
          <a:blip r:embed="rId1"/>
          <a:stretch/>
        </p:blipFill>
        <p:spPr>
          <a:xfrm>
            <a:off x="1143000" y="914400"/>
            <a:ext cx="43196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6T20:21:17Z</dcterms:created>
  <dc:creator>HISD</dc:creator>
  <dc:description/>
  <dc:language>en-US</dc:language>
  <cp:lastModifiedBy>HISD</cp:lastModifiedBy>
  <dcterms:modified xsi:type="dcterms:W3CDTF">2013-02-26T20:21:38Z</dcterms:modified>
  <cp:revision>1</cp:revision>
  <dc:subject/>
  <dc:title>Slide 1</dc:title>
</cp:coreProperties>
</file>